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2705-4F2D-4CBF-905C-2DC0BBBA4EB7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486-EC90-4121-B621-72B8125D877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i kirjallista tuottamista, keskustelu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30D8-D239-47BD-9444-38924AEB82CC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utustumaan tämän päivän työelämää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ietää minkälaisen opiskelijan voi top paikkaan tu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C39-5C46-4911-AA63-3CBAB9A1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8C1-2216-464B-9BE9-E88CFFE2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71DF-1B06-4F3A-B128-7B4FD2D3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EAC-852E-41E4-8026-CB38951F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ADBC-87BA-46B8-881D-080E6FB7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A75A-12A6-4B3F-8F07-CD925AE6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7B6A-F3E1-45A2-9E5F-B802CBC2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251E-4FED-4F50-97F1-92473A72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E1A-AF04-406F-B227-284AF90A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0876-78F7-4F1A-8255-9ACE0AE0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6B74-F0E2-402B-8FCB-F9EE5B8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542-025B-4C69-AC15-0C0C732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BA1C-B455-47D3-B307-8E02E284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79AD-C84A-4741-BAC4-3C2619BB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6424-7856-418A-AA07-4C4E85C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208C-C063-408D-90FB-3A3CA3C7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C85A-0FAD-409F-903C-4C58E2BD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CE6-F44F-4084-BF9A-70F5574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864-59BC-44B8-A852-46BBBE8A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4E8-D783-4AD5-B00A-891A4F73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05D-2328-4DC4-ADA3-1698C81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7A7-41F6-47DD-9C62-4924682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E52-651F-468E-9F4C-F2A02AE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8B7-888E-4315-9A79-EB7F726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ED80-6515-4E3E-87F2-B83D02EEF32D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323E-D102-49D1-B5AB-A5CD72A5000B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66"/>
                </a:solidFill>
                <a:latin typeface="Arial"/>
              </a:rPr>
              <a:t>TYÖELÄMÄJAKSO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76360" y="3141360"/>
            <a:ext cx="72388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Verdana"/>
              </a:rPr>
              <a:t>Päivi Vuorihuh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16.3-12.4.20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image005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6165720"/>
            <a:ext cx="1371600" cy="389160"/>
          </a:xfrm>
          <a:prstGeom prst="rect">
            <a:avLst/>
          </a:prstGeom>
          <a:ln w="0">
            <a:noFill/>
          </a:ln>
        </p:spPr>
      </p:pic>
      <p:pic>
        <p:nvPicPr>
          <p:cNvPr id="100" name="Kuva 3" descr="sosiaali.jpg"/>
          <p:cNvPicPr/>
          <p:nvPr/>
        </p:nvPicPr>
        <p:blipFill>
          <a:blip r:embed="rId2"/>
          <a:stretch/>
        </p:blipFill>
        <p:spPr>
          <a:xfrm>
            <a:off x="2124000" y="6021360"/>
            <a:ext cx="863640" cy="560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image007"/>
          <p:cNvPicPr/>
          <p:nvPr/>
        </p:nvPicPr>
        <p:blipFill>
          <a:blip r:embed="rId3"/>
          <a:stretch/>
        </p:blipFill>
        <p:spPr>
          <a:xfrm>
            <a:off x="3348000" y="6093000"/>
            <a:ext cx="907920" cy="43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Keuda logo"/>
          <p:cNvPicPr/>
          <p:nvPr/>
        </p:nvPicPr>
        <p:blipFill>
          <a:blip r:embed="rId4"/>
          <a:stretch/>
        </p:blipFill>
        <p:spPr>
          <a:xfrm>
            <a:off x="4932360" y="6165720"/>
            <a:ext cx="1079640" cy="390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4Vlogo LYAKY"/>
          <p:cNvPicPr/>
          <p:nvPr/>
        </p:nvPicPr>
        <p:blipFill>
          <a:blip r:embed="rId5"/>
          <a:stretch/>
        </p:blipFill>
        <p:spPr>
          <a:xfrm>
            <a:off x="6516720" y="6165720"/>
            <a:ext cx="957240" cy="33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TOPO-1"/>
          <p:cNvPicPr/>
          <p:nvPr/>
        </p:nvPicPr>
        <p:blipFill>
          <a:blip r:embed="rId6"/>
          <a:stretch/>
        </p:blipFill>
        <p:spPr>
          <a:xfrm>
            <a:off x="8028000" y="6021360"/>
            <a:ext cx="571320" cy="5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006666"/>
                </a:solidFill>
                <a:latin typeface="Arial"/>
              </a:rPr>
              <a:t>TAVOITE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lisätä työelämän ja oppilaitoksen yhteistyötä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kouluttaa työpaikkaohjaaji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tehdä työpaikkakartoitust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66"/>
                </a:solidFill>
                <a:latin typeface="Arial"/>
              </a:rPr>
              <a:t>MITÄ TEIN 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49636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koulutin työpaikkaohjaajia heidän omalla työpaikallaan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mukana käytännön työssä, samalla opeteltiin palautteen antamista ja perehdyttämistä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900" spc="-1" strike="noStrike">
                <a:solidFill>
                  <a:srgbClr val="000000"/>
                </a:solidFill>
                <a:latin typeface="Verdana"/>
              </a:rPr>
              <a:t>tein työpaikkakartoituksia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640" y="190512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alkukartoitus, mitä koulutettavat odottivat koulutuksel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pienryhmätapaamise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Verdana"/>
              </a:rPr>
              <a:t>käytännön työskentely työpaikal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6666"/>
                </a:solidFill>
                <a:latin typeface="Arial"/>
              </a:rPr>
              <a:t>MITÄ OPIN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enemmän opettajat työelämää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lisää vuorovaikutusta työelämän ja oppilaitoksen välillä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helpompi” ottaa yhteyttä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opiskelijoiden sijoittaminen top paikkaa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8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500" spc="-1" strike="noStrike">
                <a:solidFill>
                  <a:srgbClr val="000000"/>
                </a:solidFill>
                <a:latin typeface="Verdana"/>
              </a:rPr>
              <a:t>monialaisuu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1:49:05Z</dcterms:created>
  <dc:creator>Omnia</dc:creator>
  <dc:description/>
  <dc:language>en-US</dc:language>
  <cp:lastModifiedBy>hkamarai</cp:lastModifiedBy>
  <dcterms:modified xsi:type="dcterms:W3CDTF">2011-11-08T10:47:22Z</dcterms:modified>
  <cp:revision>4</cp:revision>
  <dc:subject/>
  <dc:title>Oma työelämäjakso</dc:title>
</cp:coreProperties>
</file>